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C42-43D8-474B-8949-5D32A3C2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7B2-43FB-4B30-A6B9-30410F19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939-869E-475B-9936-7F301501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ADB-4A67-49FB-91A7-1C801521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308-5C42-465D-B23E-801EBDDA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00D-3032-4C8B-856E-F6FA4D1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F48-EFBE-46EA-ACA3-22078D3F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605-C710-4706-A7A8-A8F0E43F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0F4-8DFE-4125-B622-F4A4424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60D-DC63-440F-A467-84A85A1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BC0-AF3D-4F5B-B9C4-7D57FF0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07B-3711-4AEE-A0EC-F05D1D7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588-EEC0-488D-B511-80A8C6A4D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7800" y="3039840"/>
            <a:ext cx="84312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81400" y="4572000"/>
            <a:ext cx="66196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ison Power, Melissa Quirin, Lili Poulsen, Valerie Schiro, Jennie Vek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75080" cy="365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203040"/>
            <a:ext cx="361476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43200" y="203040"/>
            <a:ext cx="3564000" cy="285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31680" y="3657600"/>
            <a:ext cx="2454120" cy="38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13680" y="5587920"/>
            <a:ext cx="2876400" cy="1949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05720" y="3149640"/>
            <a:ext cx="328752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40160" y="6095880"/>
            <a:ext cx="4560840" cy="14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438280" y="3735360"/>
            <a:ext cx="4243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worded Thesis Stat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812600"/>
            <a:ext cx="9702720" cy="85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word the thesis stat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iod repeating new words and phr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s up the whole paper in one sent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 of Thesis Statement: </a:t>
            </a:r>
            <a:r>
              <a:rPr b="0" lang="en-US" sz="2700" spc="-1" strike="noStrike">
                <a:solidFill>
                  <a:srgbClr val="1a1a1a"/>
                </a:solidFill>
                <a:latin typeface="arial"/>
              </a:rPr>
              <a:t>As a humble, courageous, faithful, and inspiring young woman throughout her life, St. Bernadette portrays a true role model to young wom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 of Reworded Thesis Statement: </a:t>
            </a:r>
            <a:r>
              <a:rPr b="0" lang="en-US" sz="2700" spc="-1" strike="noStrike">
                <a:solidFill>
                  <a:srgbClr val="1a1a1a"/>
                </a:solidFill>
                <a:latin typeface="Arial"/>
              </a:rPr>
              <a:t>Throughout her life, St. Bernadette always lived her life as a humble, courageous, faithful, and an inspiring role model to all who heard of 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19960" y="104760"/>
            <a:ext cx="26510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12880" y="914400"/>
            <a:ext cx="57909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80" y="417600"/>
            <a:ext cx="97999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izing Body Senten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inds the reader of something important in the body paragraph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izes all the facts in the paragraph or one interesting deta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ize by referring to the key points in the paragrap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1360" y="4368960"/>
            <a:ext cx="4087800" cy="275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9440" y="4267080"/>
            <a:ext cx="3400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cluding Wor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57600" y="1828440"/>
            <a:ext cx="965700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um it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ople can lear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in 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ny ev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brei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h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99280" y="3759120"/>
            <a:ext cx="3838320" cy="370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960" y="-101520"/>
            <a:ext cx="502452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584440" cy="35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7840" y="5181480"/>
            <a:ext cx="3309840" cy="237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48120" y="1015920"/>
            <a:ext cx="20476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oncluding Sent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6160" y="1811160"/>
            <a:ext cx="97344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ncluding sentence is the cherry on top to the paragrap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's the last sentence in the paragraph and the whole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ou should say what you hope will happen later in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 should leave the reader satisfied with what they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s sentence is the writer's opinion about the result of the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s can be achieved by a surprise, what readers can learn, a thought, or maybe even a challen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27280" y="5079960"/>
            <a:ext cx="2838240" cy="2444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13680" y="5181480"/>
            <a:ext cx="2595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